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F423066-D9C6-4C77-BC38-ED02DF7D3F01}" type="doc">
      <dgm:prSet loTypeId="urn:microsoft.com/office/officeart/2005/8/layout/hierarchy4" loCatId="hierarchy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de-AT"/>
        </a:p>
      </dgm:t>
    </dgm:pt>
    <dgm:pt modelId="{0DA9C838-34C7-4AB3-B628-F921B5C22728}">
      <dgm:prSet phldrT="[Text]"/>
      <dgm:spPr/>
      <dgm:t>
        <a:bodyPr/>
        <a:lstStyle/>
        <a:p>
          <a:pPr algn="ctr"/>
          <a:r>
            <a:rPr lang="de-DE" dirty="0" smtClean="0"/>
            <a:t>Catch </a:t>
          </a:r>
          <a:r>
            <a:rPr lang="de-DE" dirty="0" err="1" smtClean="0"/>
            <a:t>me</a:t>
          </a:r>
          <a:r>
            <a:rPr lang="de-DE" dirty="0" smtClean="0"/>
            <a:t> </a:t>
          </a:r>
          <a:r>
            <a:rPr lang="de-DE" dirty="0" err="1" smtClean="0"/>
            <a:t>if</a:t>
          </a:r>
          <a:r>
            <a:rPr lang="de-DE" dirty="0" smtClean="0"/>
            <a:t> </a:t>
          </a:r>
          <a:r>
            <a:rPr lang="de-DE" dirty="0" err="1" smtClean="0"/>
            <a:t>you</a:t>
          </a:r>
          <a:r>
            <a:rPr lang="de-DE" dirty="0" smtClean="0"/>
            <a:t> </a:t>
          </a:r>
          <a:r>
            <a:rPr lang="de-DE" dirty="0" err="1" smtClean="0"/>
            <a:t>can</a:t>
          </a:r>
          <a:endParaRPr lang="de-AT" dirty="0"/>
        </a:p>
      </dgm:t>
    </dgm:pt>
    <dgm:pt modelId="{A9469F0E-4247-4DB6-B3BC-4F5D845FC0DE}" type="parTrans" cxnId="{27A00ABF-3077-4C76-B940-0AD50240BA0A}">
      <dgm:prSet/>
      <dgm:spPr/>
      <dgm:t>
        <a:bodyPr/>
        <a:lstStyle/>
        <a:p>
          <a:pPr algn="ctr"/>
          <a:endParaRPr lang="de-AT"/>
        </a:p>
      </dgm:t>
    </dgm:pt>
    <dgm:pt modelId="{E29DD9E7-5F8B-4AAB-A2F8-FEEBF9139ADD}" type="sibTrans" cxnId="{27A00ABF-3077-4C76-B940-0AD50240BA0A}">
      <dgm:prSet/>
      <dgm:spPr/>
      <dgm:t>
        <a:bodyPr/>
        <a:lstStyle/>
        <a:p>
          <a:pPr algn="ctr"/>
          <a:endParaRPr lang="de-AT"/>
        </a:p>
      </dgm:t>
    </dgm:pt>
    <dgm:pt modelId="{250DF42B-CC3E-44E9-A506-B48B5FC3EA03}">
      <dgm:prSet phldrT="[Text]"/>
      <dgm:spPr/>
      <dgm:t>
        <a:bodyPr/>
        <a:lstStyle/>
        <a:p>
          <a:pPr algn="ctr"/>
          <a:r>
            <a:rPr lang="de-DE" dirty="0" smtClean="0"/>
            <a:t>Login</a:t>
          </a:r>
          <a:endParaRPr lang="de-AT" dirty="0"/>
        </a:p>
      </dgm:t>
    </dgm:pt>
    <dgm:pt modelId="{25F56956-A662-4CA4-A18B-C67BA78EDC0F}" type="parTrans" cxnId="{68104CA3-E317-40C0-8452-DD11F5432F4E}">
      <dgm:prSet/>
      <dgm:spPr/>
      <dgm:t>
        <a:bodyPr/>
        <a:lstStyle/>
        <a:p>
          <a:pPr algn="ctr"/>
          <a:endParaRPr lang="de-AT"/>
        </a:p>
      </dgm:t>
    </dgm:pt>
    <dgm:pt modelId="{322B0B95-9DDD-4849-BF35-483C3DE959E5}" type="sibTrans" cxnId="{68104CA3-E317-40C0-8452-DD11F5432F4E}">
      <dgm:prSet/>
      <dgm:spPr/>
      <dgm:t>
        <a:bodyPr/>
        <a:lstStyle/>
        <a:p>
          <a:pPr algn="ctr"/>
          <a:endParaRPr lang="de-AT"/>
        </a:p>
      </dgm:t>
    </dgm:pt>
    <dgm:pt modelId="{64364645-58CA-4659-BF30-1ADA1220B521}">
      <dgm:prSet/>
      <dgm:spPr/>
      <dgm:t>
        <a:bodyPr/>
        <a:lstStyle/>
        <a:p>
          <a:pPr algn="ctr"/>
          <a:r>
            <a:rPr lang="de-DE" dirty="0" smtClean="0"/>
            <a:t>Hauptmenü</a:t>
          </a:r>
          <a:endParaRPr lang="de-AT" dirty="0"/>
        </a:p>
      </dgm:t>
    </dgm:pt>
    <dgm:pt modelId="{BD237FC9-D4F8-4032-828A-6852DB60B984}" type="parTrans" cxnId="{882AACF5-AE27-42A7-97C1-82641AED3EC2}">
      <dgm:prSet/>
      <dgm:spPr/>
      <dgm:t>
        <a:bodyPr/>
        <a:lstStyle/>
        <a:p>
          <a:pPr algn="ctr"/>
          <a:endParaRPr lang="de-AT"/>
        </a:p>
      </dgm:t>
    </dgm:pt>
    <dgm:pt modelId="{34209B34-A8ED-4B4F-B9AF-7AE563B47F3D}" type="sibTrans" cxnId="{882AACF5-AE27-42A7-97C1-82641AED3EC2}">
      <dgm:prSet/>
      <dgm:spPr/>
      <dgm:t>
        <a:bodyPr/>
        <a:lstStyle/>
        <a:p>
          <a:pPr algn="ctr"/>
          <a:endParaRPr lang="de-AT"/>
        </a:p>
      </dgm:t>
    </dgm:pt>
    <dgm:pt modelId="{E6ECB35A-736E-4B27-B96D-D9DCA45C01D0}">
      <dgm:prSet/>
      <dgm:spPr/>
      <dgm:t>
        <a:bodyPr/>
        <a:lstStyle/>
        <a:p>
          <a:pPr algn="ctr"/>
          <a:r>
            <a:rPr lang="de-DE" dirty="0" smtClean="0"/>
            <a:t>Spiel Erstellen</a:t>
          </a:r>
          <a:endParaRPr lang="de-AT" dirty="0"/>
        </a:p>
      </dgm:t>
    </dgm:pt>
    <dgm:pt modelId="{FB00D54D-0D9A-484A-8100-A655C34DF5FE}" type="parTrans" cxnId="{01E9F19C-6D69-4936-9603-B7E1D7DFA7AF}">
      <dgm:prSet/>
      <dgm:spPr/>
      <dgm:t>
        <a:bodyPr/>
        <a:lstStyle/>
        <a:p>
          <a:pPr algn="ctr"/>
          <a:endParaRPr lang="de-AT"/>
        </a:p>
      </dgm:t>
    </dgm:pt>
    <dgm:pt modelId="{CDB6FDBF-BE21-4461-885B-333C4F61BDDD}" type="sibTrans" cxnId="{01E9F19C-6D69-4936-9603-B7E1D7DFA7AF}">
      <dgm:prSet/>
      <dgm:spPr/>
      <dgm:t>
        <a:bodyPr/>
        <a:lstStyle/>
        <a:p>
          <a:pPr algn="ctr"/>
          <a:endParaRPr lang="de-AT"/>
        </a:p>
      </dgm:t>
    </dgm:pt>
    <dgm:pt modelId="{ABBFBDC5-3CB8-4614-B586-DFA2BB0C380E}">
      <dgm:prSet/>
      <dgm:spPr/>
      <dgm:t>
        <a:bodyPr/>
        <a:lstStyle/>
        <a:p>
          <a:pPr algn="ctr"/>
          <a:r>
            <a:rPr lang="de-DE" dirty="0" smtClean="0"/>
            <a:t>Spiel Beitreten</a:t>
          </a:r>
          <a:endParaRPr lang="de-AT" dirty="0"/>
        </a:p>
      </dgm:t>
    </dgm:pt>
    <dgm:pt modelId="{47414B81-88B0-4A2A-95D5-B3D3D54C1C40}" type="parTrans" cxnId="{3CF29EAB-892C-4DEA-826E-D2E44A544B27}">
      <dgm:prSet/>
      <dgm:spPr/>
      <dgm:t>
        <a:bodyPr/>
        <a:lstStyle/>
        <a:p>
          <a:pPr algn="ctr"/>
          <a:endParaRPr lang="de-AT"/>
        </a:p>
      </dgm:t>
    </dgm:pt>
    <dgm:pt modelId="{16FB3295-D8D9-4C81-9B50-1CCBDBC440D9}" type="sibTrans" cxnId="{3CF29EAB-892C-4DEA-826E-D2E44A544B27}">
      <dgm:prSet/>
      <dgm:spPr/>
      <dgm:t>
        <a:bodyPr/>
        <a:lstStyle/>
        <a:p>
          <a:pPr algn="ctr"/>
          <a:endParaRPr lang="de-AT"/>
        </a:p>
      </dgm:t>
    </dgm:pt>
    <dgm:pt modelId="{C37686AB-A15B-49C2-8BC3-34AFF0585070}">
      <dgm:prSet/>
      <dgm:spPr/>
      <dgm:t>
        <a:bodyPr/>
        <a:lstStyle/>
        <a:p>
          <a:pPr algn="ctr"/>
          <a:r>
            <a:rPr lang="de-DE" dirty="0" smtClean="0"/>
            <a:t>Einstellungen</a:t>
          </a:r>
          <a:endParaRPr lang="de-AT" dirty="0"/>
        </a:p>
      </dgm:t>
    </dgm:pt>
    <dgm:pt modelId="{BE87FD58-AD7B-4401-AAC9-59DE3C307107}" type="parTrans" cxnId="{0DE95EEB-3FC4-4E2F-A21E-862630439E1A}">
      <dgm:prSet/>
      <dgm:spPr/>
      <dgm:t>
        <a:bodyPr/>
        <a:lstStyle/>
        <a:p>
          <a:pPr algn="ctr"/>
          <a:endParaRPr lang="de-AT"/>
        </a:p>
      </dgm:t>
    </dgm:pt>
    <dgm:pt modelId="{9FE66259-AB5C-454F-9F9D-FCF12494772B}" type="sibTrans" cxnId="{0DE95EEB-3FC4-4E2F-A21E-862630439E1A}">
      <dgm:prSet/>
      <dgm:spPr/>
      <dgm:t>
        <a:bodyPr/>
        <a:lstStyle/>
        <a:p>
          <a:pPr algn="ctr"/>
          <a:endParaRPr lang="de-AT"/>
        </a:p>
      </dgm:t>
    </dgm:pt>
    <dgm:pt modelId="{61C574B6-1A82-4D89-9834-783BB5CEEA43}">
      <dgm:prSet/>
      <dgm:spPr/>
      <dgm:t>
        <a:bodyPr/>
        <a:lstStyle/>
        <a:p>
          <a:pPr algn="ctr"/>
          <a:r>
            <a:rPr lang="de-DE" dirty="0" smtClean="0"/>
            <a:t>Beenden</a:t>
          </a:r>
          <a:endParaRPr lang="de-AT" dirty="0"/>
        </a:p>
      </dgm:t>
    </dgm:pt>
    <dgm:pt modelId="{43864F56-D25B-458C-B542-0E136257C229}" type="parTrans" cxnId="{8031DB0D-1036-4808-9D61-DD151D6276C9}">
      <dgm:prSet/>
      <dgm:spPr/>
      <dgm:t>
        <a:bodyPr/>
        <a:lstStyle/>
        <a:p>
          <a:pPr algn="ctr"/>
          <a:endParaRPr lang="de-AT"/>
        </a:p>
      </dgm:t>
    </dgm:pt>
    <dgm:pt modelId="{ED127221-25FD-4CF8-9B6B-995E60A6A8EC}" type="sibTrans" cxnId="{8031DB0D-1036-4808-9D61-DD151D6276C9}">
      <dgm:prSet/>
      <dgm:spPr/>
      <dgm:t>
        <a:bodyPr/>
        <a:lstStyle/>
        <a:p>
          <a:pPr algn="ctr"/>
          <a:endParaRPr lang="de-AT"/>
        </a:p>
      </dgm:t>
    </dgm:pt>
    <dgm:pt modelId="{5F135698-6F98-4BA1-A60D-E25B8F3CFAF1}">
      <dgm:prSet/>
      <dgm:spPr/>
      <dgm:t>
        <a:bodyPr/>
        <a:lstStyle/>
        <a:p>
          <a:pPr algn="ctr"/>
          <a:r>
            <a:rPr lang="de-DE" dirty="0" smtClean="0"/>
            <a:t>Spiel Channel</a:t>
          </a:r>
          <a:endParaRPr lang="de-AT" dirty="0"/>
        </a:p>
      </dgm:t>
    </dgm:pt>
    <dgm:pt modelId="{5FA3E79B-6F64-4209-AAB2-C0B2973C9D9D}" type="parTrans" cxnId="{0DD1A5F7-D985-4841-9DEA-93D650CB8B64}">
      <dgm:prSet/>
      <dgm:spPr/>
      <dgm:t>
        <a:bodyPr/>
        <a:lstStyle/>
        <a:p>
          <a:pPr algn="ctr"/>
          <a:endParaRPr lang="de-AT"/>
        </a:p>
      </dgm:t>
    </dgm:pt>
    <dgm:pt modelId="{91F27606-31BB-4CA9-9B3B-1969A5669E4D}" type="sibTrans" cxnId="{0DD1A5F7-D985-4841-9DEA-93D650CB8B64}">
      <dgm:prSet/>
      <dgm:spPr/>
      <dgm:t>
        <a:bodyPr/>
        <a:lstStyle/>
        <a:p>
          <a:pPr algn="ctr"/>
          <a:endParaRPr lang="de-AT"/>
        </a:p>
      </dgm:t>
    </dgm:pt>
    <dgm:pt modelId="{A2DC0ECE-BC62-432A-BC4A-1C9E1F3D1062}">
      <dgm:prSet/>
      <dgm:spPr/>
      <dgm:t>
        <a:bodyPr/>
        <a:lstStyle/>
        <a:p>
          <a:r>
            <a:rPr lang="de-DE" dirty="0" smtClean="0"/>
            <a:t>Spiel</a:t>
          </a:r>
          <a:endParaRPr lang="de-AT" dirty="0"/>
        </a:p>
      </dgm:t>
    </dgm:pt>
    <dgm:pt modelId="{92EB918D-8C8B-452F-BA6D-4E5756103B8A}" type="parTrans" cxnId="{ECDF5F9D-E3B6-4E9F-8BEF-BDC7C2AC5849}">
      <dgm:prSet/>
      <dgm:spPr/>
      <dgm:t>
        <a:bodyPr/>
        <a:lstStyle/>
        <a:p>
          <a:endParaRPr lang="de-AT"/>
        </a:p>
      </dgm:t>
    </dgm:pt>
    <dgm:pt modelId="{CA0D85C2-47F3-41FB-8A75-76373F77A428}" type="sibTrans" cxnId="{ECDF5F9D-E3B6-4E9F-8BEF-BDC7C2AC5849}">
      <dgm:prSet/>
      <dgm:spPr/>
      <dgm:t>
        <a:bodyPr/>
        <a:lstStyle/>
        <a:p>
          <a:endParaRPr lang="de-AT"/>
        </a:p>
      </dgm:t>
    </dgm:pt>
    <dgm:pt modelId="{2ADFBAC0-BA18-49D1-901E-EE2F4FA155FA}" type="pres">
      <dgm:prSet presAssocID="{4F423066-D9C6-4C77-BC38-ED02DF7D3F01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de-AT"/>
        </a:p>
      </dgm:t>
    </dgm:pt>
    <dgm:pt modelId="{D712681D-9107-4330-AAF1-5681693D28C3}" type="pres">
      <dgm:prSet presAssocID="{0DA9C838-34C7-4AB3-B628-F921B5C22728}" presName="vertOne" presStyleCnt="0"/>
      <dgm:spPr/>
    </dgm:pt>
    <dgm:pt modelId="{0F195110-2797-4DFE-94CD-C392EA094FD7}" type="pres">
      <dgm:prSet presAssocID="{0DA9C838-34C7-4AB3-B628-F921B5C22728}" presName="txOne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7E02218A-48DA-4BA1-B502-F7C97A3F963E}" type="pres">
      <dgm:prSet presAssocID="{0DA9C838-34C7-4AB3-B628-F921B5C22728}" presName="parTransOne" presStyleCnt="0"/>
      <dgm:spPr/>
    </dgm:pt>
    <dgm:pt modelId="{CC7BAFBA-08F2-4774-A682-22D155D1FB9D}" type="pres">
      <dgm:prSet presAssocID="{0DA9C838-34C7-4AB3-B628-F921B5C22728}" presName="horzOne" presStyleCnt="0"/>
      <dgm:spPr/>
    </dgm:pt>
    <dgm:pt modelId="{5383A2A0-DEEE-4013-A5E5-B8CF67BA5157}" type="pres">
      <dgm:prSet presAssocID="{250DF42B-CC3E-44E9-A506-B48B5FC3EA03}" presName="vertTwo" presStyleCnt="0"/>
      <dgm:spPr/>
    </dgm:pt>
    <dgm:pt modelId="{D7BFB2A1-955D-4EFB-A6D9-B3D4E4CF4FB4}" type="pres">
      <dgm:prSet presAssocID="{250DF42B-CC3E-44E9-A506-B48B5FC3EA03}" presName="txTwo" presStyleLbl="node2" presStyleIdx="0" presStyleCnt="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756327CB-92AA-4B52-ABAC-6EB0E4B82DD9}" type="pres">
      <dgm:prSet presAssocID="{250DF42B-CC3E-44E9-A506-B48B5FC3EA03}" presName="parTransTwo" presStyleCnt="0"/>
      <dgm:spPr/>
    </dgm:pt>
    <dgm:pt modelId="{66FC0C9B-E73F-45E2-BBEA-2FD5E5FDC992}" type="pres">
      <dgm:prSet presAssocID="{250DF42B-CC3E-44E9-A506-B48B5FC3EA03}" presName="horzTwo" presStyleCnt="0"/>
      <dgm:spPr/>
    </dgm:pt>
    <dgm:pt modelId="{D6DB43B1-8367-4270-B089-8D9213942539}" type="pres">
      <dgm:prSet presAssocID="{64364645-58CA-4659-BF30-1ADA1220B521}" presName="vertThree" presStyleCnt="0"/>
      <dgm:spPr/>
    </dgm:pt>
    <dgm:pt modelId="{6F06082F-D823-4837-B6DE-A7535702D30B}" type="pres">
      <dgm:prSet presAssocID="{64364645-58CA-4659-BF30-1ADA1220B521}" presName="txThree" presStyleLbl="node3" presStyleIdx="0" presStyleCnt="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F43BBED4-1D53-4E9B-BCDB-2BAFFFCA512A}" type="pres">
      <dgm:prSet presAssocID="{64364645-58CA-4659-BF30-1ADA1220B521}" presName="parTransThree" presStyleCnt="0"/>
      <dgm:spPr/>
    </dgm:pt>
    <dgm:pt modelId="{97302874-E304-4410-ADFA-A60EA0F13DC3}" type="pres">
      <dgm:prSet presAssocID="{64364645-58CA-4659-BF30-1ADA1220B521}" presName="horzThree" presStyleCnt="0"/>
      <dgm:spPr/>
    </dgm:pt>
    <dgm:pt modelId="{E2672BA2-F17F-42F6-8153-145BBE20B3DE}" type="pres">
      <dgm:prSet presAssocID="{E6ECB35A-736E-4B27-B96D-D9DCA45C01D0}" presName="vertFour" presStyleCnt="0">
        <dgm:presLayoutVars>
          <dgm:chPref val="3"/>
        </dgm:presLayoutVars>
      </dgm:prSet>
      <dgm:spPr/>
    </dgm:pt>
    <dgm:pt modelId="{184F94B8-01E0-478F-8D5C-5E9B4AAACC3C}" type="pres">
      <dgm:prSet presAssocID="{E6ECB35A-736E-4B27-B96D-D9DCA45C01D0}" presName="txFour" presStyleLbl="node4" presStyleIdx="0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8A52424E-C010-4BC8-B0D3-2E5F1F717562}" type="pres">
      <dgm:prSet presAssocID="{E6ECB35A-736E-4B27-B96D-D9DCA45C01D0}" presName="parTransFour" presStyleCnt="0"/>
      <dgm:spPr/>
    </dgm:pt>
    <dgm:pt modelId="{D28ED55E-0A14-48A3-AF1B-3BCE17E4F28C}" type="pres">
      <dgm:prSet presAssocID="{E6ECB35A-736E-4B27-B96D-D9DCA45C01D0}" presName="horzFour" presStyleCnt="0"/>
      <dgm:spPr/>
    </dgm:pt>
    <dgm:pt modelId="{5097420A-72D8-498A-8BC0-62119B072480}" type="pres">
      <dgm:prSet presAssocID="{5F135698-6F98-4BA1-A60D-E25B8F3CFAF1}" presName="vertFour" presStyleCnt="0">
        <dgm:presLayoutVars>
          <dgm:chPref val="3"/>
        </dgm:presLayoutVars>
      </dgm:prSet>
      <dgm:spPr/>
    </dgm:pt>
    <dgm:pt modelId="{D4C6A7F2-6013-4A61-B88A-45F3BF4BEF47}" type="pres">
      <dgm:prSet presAssocID="{5F135698-6F98-4BA1-A60D-E25B8F3CFAF1}" presName="txFour" presStyleLbl="node4" presStyleIdx="1" presStyleCnt="6" custLinFactNeighborX="50285" custLinFactNeighborY="605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3465D108-D4B5-46F6-A9FB-3F7BAACB0040}" type="pres">
      <dgm:prSet presAssocID="{5F135698-6F98-4BA1-A60D-E25B8F3CFAF1}" presName="parTransFour" presStyleCnt="0"/>
      <dgm:spPr/>
    </dgm:pt>
    <dgm:pt modelId="{CA71C0AF-EA1A-456E-A969-C5C5548AA713}" type="pres">
      <dgm:prSet presAssocID="{5F135698-6F98-4BA1-A60D-E25B8F3CFAF1}" presName="horzFour" presStyleCnt="0"/>
      <dgm:spPr/>
    </dgm:pt>
    <dgm:pt modelId="{85C37D2E-8258-4E08-979F-CACCECE4D4AF}" type="pres">
      <dgm:prSet presAssocID="{A2DC0ECE-BC62-432A-BC4A-1C9E1F3D1062}" presName="vertFour" presStyleCnt="0">
        <dgm:presLayoutVars>
          <dgm:chPref val="3"/>
        </dgm:presLayoutVars>
      </dgm:prSet>
      <dgm:spPr/>
    </dgm:pt>
    <dgm:pt modelId="{308D2534-0E34-49C0-890A-DC14FC887B8A}" type="pres">
      <dgm:prSet presAssocID="{A2DC0ECE-BC62-432A-BC4A-1C9E1F3D1062}" presName="txFour" presStyleLbl="node4" presStyleIdx="2" presStyleCnt="6" custLinFactNeighborX="50285" custLinFactNeighborY="-1632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ABCFE8C1-0283-4467-9CBA-2D8AD718007C}" type="pres">
      <dgm:prSet presAssocID="{A2DC0ECE-BC62-432A-BC4A-1C9E1F3D1062}" presName="horzFour" presStyleCnt="0"/>
      <dgm:spPr/>
    </dgm:pt>
    <dgm:pt modelId="{431C7E33-E8B6-4228-8CFE-14EB1AD505B6}" type="pres">
      <dgm:prSet presAssocID="{CDB6FDBF-BE21-4461-885B-333C4F61BDDD}" presName="sibSpaceFour" presStyleCnt="0"/>
      <dgm:spPr/>
    </dgm:pt>
    <dgm:pt modelId="{3AEDADCE-2E83-49C4-BE4F-A65BF0AD726C}" type="pres">
      <dgm:prSet presAssocID="{ABBFBDC5-3CB8-4614-B586-DFA2BB0C380E}" presName="vertFour" presStyleCnt="0">
        <dgm:presLayoutVars>
          <dgm:chPref val="3"/>
        </dgm:presLayoutVars>
      </dgm:prSet>
      <dgm:spPr/>
    </dgm:pt>
    <dgm:pt modelId="{E2B5C4C1-C5C1-4D71-A776-AA7EA83AA597}" type="pres">
      <dgm:prSet presAssocID="{ABBFBDC5-3CB8-4614-B586-DFA2BB0C380E}" presName="txFour" presStyleLbl="node4" presStyleIdx="3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9FA71209-EE16-42F5-8CAE-BAF9D8022D83}" type="pres">
      <dgm:prSet presAssocID="{ABBFBDC5-3CB8-4614-B586-DFA2BB0C380E}" presName="horzFour" presStyleCnt="0"/>
      <dgm:spPr/>
    </dgm:pt>
    <dgm:pt modelId="{A5998ABA-621B-4001-976B-6135A31B3010}" type="pres">
      <dgm:prSet presAssocID="{16FB3295-D8D9-4C81-9B50-1CCBDBC440D9}" presName="sibSpaceFour" presStyleCnt="0"/>
      <dgm:spPr/>
    </dgm:pt>
    <dgm:pt modelId="{67EE154F-356F-41A6-8F4B-01CC1007E07E}" type="pres">
      <dgm:prSet presAssocID="{C37686AB-A15B-49C2-8BC3-34AFF0585070}" presName="vertFour" presStyleCnt="0">
        <dgm:presLayoutVars>
          <dgm:chPref val="3"/>
        </dgm:presLayoutVars>
      </dgm:prSet>
      <dgm:spPr/>
    </dgm:pt>
    <dgm:pt modelId="{AD3FEA00-7510-4D4E-A045-C79048387B36}" type="pres">
      <dgm:prSet presAssocID="{C37686AB-A15B-49C2-8BC3-34AFF0585070}" presName="txFour" presStyleLbl="node4" presStyleIdx="4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F0A10195-C97D-4CF2-9807-DB98ABFBBA9D}" type="pres">
      <dgm:prSet presAssocID="{C37686AB-A15B-49C2-8BC3-34AFF0585070}" presName="horzFour" presStyleCnt="0"/>
      <dgm:spPr/>
    </dgm:pt>
    <dgm:pt modelId="{F5455CC1-A1D2-4166-B8BB-B1CF1E6863AE}" type="pres">
      <dgm:prSet presAssocID="{9FE66259-AB5C-454F-9F9D-FCF12494772B}" presName="sibSpaceFour" presStyleCnt="0"/>
      <dgm:spPr/>
    </dgm:pt>
    <dgm:pt modelId="{4E777486-C74C-4281-A472-2910E2B25B4A}" type="pres">
      <dgm:prSet presAssocID="{61C574B6-1A82-4D89-9834-783BB5CEEA43}" presName="vertFour" presStyleCnt="0">
        <dgm:presLayoutVars>
          <dgm:chPref val="3"/>
        </dgm:presLayoutVars>
      </dgm:prSet>
      <dgm:spPr/>
    </dgm:pt>
    <dgm:pt modelId="{EEC79A7F-AB37-4592-897E-52338C56C270}" type="pres">
      <dgm:prSet presAssocID="{61C574B6-1A82-4D89-9834-783BB5CEEA43}" presName="txFour" presStyleLbl="node4" presStyleIdx="5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44430F5C-0DB7-4F54-8720-0B59FA1AE32B}" type="pres">
      <dgm:prSet presAssocID="{61C574B6-1A82-4D89-9834-783BB5CEEA43}" presName="horzFour" presStyleCnt="0"/>
      <dgm:spPr/>
    </dgm:pt>
  </dgm:ptLst>
  <dgm:cxnLst>
    <dgm:cxn modelId="{F6679C36-B453-4D57-B591-2468D75D41A1}" type="presOf" srcId="{4F423066-D9C6-4C77-BC38-ED02DF7D3F01}" destId="{2ADFBAC0-BA18-49D1-901E-EE2F4FA155FA}" srcOrd="0" destOrd="0" presId="urn:microsoft.com/office/officeart/2005/8/layout/hierarchy4"/>
    <dgm:cxn modelId="{F2A7089F-1B76-40C9-A0B3-E1543B5EC2AA}" type="presOf" srcId="{ABBFBDC5-3CB8-4614-B586-DFA2BB0C380E}" destId="{E2B5C4C1-C5C1-4D71-A776-AA7EA83AA597}" srcOrd="0" destOrd="0" presId="urn:microsoft.com/office/officeart/2005/8/layout/hierarchy4"/>
    <dgm:cxn modelId="{88C37744-5C04-4C20-8C67-D9108F4D7E64}" type="presOf" srcId="{E6ECB35A-736E-4B27-B96D-D9DCA45C01D0}" destId="{184F94B8-01E0-478F-8D5C-5E9B4AAACC3C}" srcOrd="0" destOrd="0" presId="urn:microsoft.com/office/officeart/2005/8/layout/hierarchy4"/>
    <dgm:cxn modelId="{0DE95EEB-3FC4-4E2F-A21E-862630439E1A}" srcId="{64364645-58CA-4659-BF30-1ADA1220B521}" destId="{C37686AB-A15B-49C2-8BC3-34AFF0585070}" srcOrd="2" destOrd="0" parTransId="{BE87FD58-AD7B-4401-AAC9-59DE3C307107}" sibTransId="{9FE66259-AB5C-454F-9F9D-FCF12494772B}"/>
    <dgm:cxn modelId="{57F008E0-790B-498D-A890-5FBF717588B8}" type="presOf" srcId="{64364645-58CA-4659-BF30-1ADA1220B521}" destId="{6F06082F-D823-4837-B6DE-A7535702D30B}" srcOrd="0" destOrd="0" presId="urn:microsoft.com/office/officeart/2005/8/layout/hierarchy4"/>
    <dgm:cxn modelId="{DBF13F81-BA8D-4343-8AA5-1B5464E0D4E1}" type="presOf" srcId="{0DA9C838-34C7-4AB3-B628-F921B5C22728}" destId="{0F195110-2797-4DFE-94CD-C392EA094FD7}" srcOrd="0" destOrd="0" presId="urn:microsoft.com/office/officeart/2005/8/layout/hierarchy4"/>
    <dgm:cxn modelId="{493E711C-D52B-4BE4-B6FD-AC7E742BECD6}" type="presOf" srcId="{A2DC0ECE-BC62-432A-BC4A-1C9E1F3D1062}" destId="{308D2534-0E34-49C0-890A-DC14FC887B8A}" srcOrd="0" destOrd="0" presId="urn:microsoft.com/office/officeart/2005/8/layout/hierarchy4"/>
    <dgm:cxn modelId="{27A00ABF-3077-4C76-B940-0AD50240BA0A}" srcId="{4F423066-D9C6-4C77-BC38-ED02DF7D3F01}" destId="{0DA9C838-34C7-4AB3-B628-F921B5C22728}" srcOrd="0" destOrd="0" parTransId="{A9469F0E-4247-4DB6-B3BC-4F5D845FC0DE}" sibTransId="{E29DD9E7-5F8B-4AAB-A2F8-FEEBF9139ADD}"/>
    <dgm:cxn modelId="{CF9827EF-647A-439F-A395-02CA0861356F}" type="presOf" srcId="{C37686AB-A15B-49C2-8BC3-34AFF0585070}" destId="{AD3FEA00-7510-4D4E-A045-C79048387B36}" srcOrd="0" destOrd="0" presId="urn:microsoft.com/office/officeart/2005/8/layout/hierarchy4"/>
    <dgm:cxn modelId="{5F8DE4B2-C5CC-4ADC-BEE1-631D02CF8DE4}" type="presOf" srcId="{61C574B6-1A82-4D89-9834-783BB5CEEA43}" destId="{EEC79A7F-AB37-4592-897E-52338C56C270}" srcOrd="0" destOrd="0" presId="urn:microsoft.com/office/officeart/2005/8/layout/hierarchy4"/>
    <dgm:cxn modelId="{01E9F19C-6D69-4936-9603-B7E1D7DFA7AF}" srcId="{64364645-58CA-4659-BF30-1ADA1220B521}" destId="{E6ECB35A-736E-4B27-B96D-D9DCA45C01D0}" srcOrd="0" destOrd="0" parTransId="{FB00D54D-0D9A-484A-8100-A655C34DF5FE}" sibTransId="{CDB6FDBF-BE21-4461-885B-333C4F61BDDD}"/>
    <dgm:cxn modelId="{8031DB0D-1036-4808-9D61-DD151D6276C9}" srcId="{64364645-58CA-4659-BF30-1ADA1220B521}" destId="{61C574B6-1A82-4D89-9834-783BB5CEEA43}" srcOrd="3" destOrd="0" parTransId="{43864F56-D25B-458C-B542-0E136257C229}" sibTransId="{ED127221-25FD-4CF8-9B6B-995E60A6A8EC}"/>
    <dgm:cxn modelId="{72053D92-8D4F-424A-A043-9180100D1103}" type="presOf" srcId="{250DF42B-CC3E-44E9-A506-B48B5FC3EA03}" destId="{D7BFB2A1-955D-4EFB-A6D9-B3D4E4CF4FB4}" srcOrd="0" destOrd="0" presId="urn:microsoft.com/office/officeart/2005/8/layout/hierarchy4"/>
    <dgm:cxn modelId="{68104CA3-E317-40C0-8452-DD11F5432F4E}" srcId="{0DA9C838-34C7-4AB3-B628-F921B5C22728}" destId="{250DF42B-CC3E-44E9-A506-B48B5FC3EA03}" srcOrd="0" destOrd="0" parTransId="{25F56956-A662-4CA4-A18B-C67BA78EDC0F}" sibTransId="{322B0B95-9DDD-4849-BF35-483C3DE959E5}"/>
    <dgm:cxn modelId="{ECDF5F9D-E3B6-4E9F-8BEF-BDC7C2AC5849}" srcId="{5F135698-6F98-4BA1-A60D-E25B8F3CFAF1}" destId="{A2DC0ECE-BC62-432A-BC4A-1C9E1F3D1062}" srcOrd="0" destOrd="0" parTransId="{92EB918D-8C8B-452F-BA6D-4E5756103B8A}" sibTransId="{CA0D85C2-47F3-41FB-8A75-76373F77A428}"/>
    <dgm:cxn modelId="{3CF29EAB-892C-4DEA-826E-D2E44A544B27}" srcId="{64364645-58CA-4659-BF30-1ADA1220B521}" destId="{ABBFBDC5-3CB8-4614-B586-DFA2BB0C380E}" srcOrd="1" destOrd="0" parTransId="{47414B81-88B0-4A2A-95D5-B3D3D54C1C40}" sibTransId="{16FB3295-D8D9-4C81-9B50-1CCBDBC440D9}"/>
    <dgm:cxn modelId="{0DD1A5F7-D985-4841-9DEA-93D650CB8B64}" srcId="{E6ECB35A-736E-4B27-B96D-D9DCA45C01D0}" destId="{5F135698-6F98-4BA1-A60D-E25B8F3CFAF1}" srcOrd="0" destOrd="0" parTransId="{5FA3E79B-6F64-4209-AAB2-C0B2973C9D9D}" sibTransId="{91F27606-31BB-4CA9-9B3B-1969A5669E4D}"/>
    <dgm:cxn modelId="{882AACF5-AE27-42A7-97C1-82641AED3EC2}" srcId="{250DF42B-CC3E-44E9-A506-B48B5FC3EA03}" destId="{64364645-58CA-4659-BF30-1ADA1220B521}" srcOrd="0" destOrd="0" parTransId="{BD237FC9-D4F8-4032-828A-6852DB60B984}" sibTransId="{34209B34-A8ED-4B4F-B9AF-7AE563B47F3D}"/>
    <dgm:cxn modelId="{F8ACA955-43A1-45E6-AEB3-326225EDBE91}" type="presOf" srcId="{5F135698-6F98-4BA1-A60D-E25B8F3CFAF1}" destId="{D4C6A7F2-6013-4A61-B88A-45F3BF4BEF47}" srcOrd="0" destOrd="0" presId="urn:microsoft.com/office/officeart/2005/8/layout/hierarchy4"/>
    <dgm:cxn modelId="{8F3FD290-733E-416F-A4E3-DC959AB8895F}" type="presParOf" srcId="{2ADFBAC0-BA18-49D1-901E-EE2F4FA155FA}" destId="{D712681D-9107-4330-AAF1-5681693D28C3}" srcOrd="0" destOrd="0" presId="urn:microsoft.com/office/officeart/2005/8/layout/hierarchy4"/>
    <dgm:cxn modelId="{B1F23A7E-1E45-477B-9686-729F7930A3ED}" type="presParOf" srcId="{D712681D-9107-4330-AAF1-5681693D28C3}" destId="{0F195110-2797-4DFE-94CD-C392EA094FD7}" srcOrd="0" destOrd="0" presId="urn:microsoft.com/office/officeart/2005/8/layout/hierarchy4"/>
    <dgm:cxn modelId="{A1D27352-F733-4873-A39D-3E9D890C0D9B}" type="presParOf" srcId="{D712681D-9107-4330-AAF1-5681693D28C3}" destId="{7E02218A-48DA-4BA1-B502-F7C97A3F963E}" srcOrd="1" destOrd="0" presId="urn:microsoft.com/office/officeart/2005/8/layout/hierarchy4"/>
    <dgm:cxn modelId="{10C7D0A7-B939-4C15-82B6-C50667AA41AF}" type="presParOf" srcId="{D712681D-9107-4330-AAF1-5681693D28C3}" destId="{CC7BAFBA-08F2-4774-A682-22D155D1FB9D}" srcOrd="2" destOrd="0" presId="urn:microsoft.com/office/officeart/2005/8/layout/hierarchy4"/>
    <dgm:cxn modelId="{793969AD-5D89-4EF1-8730-894842462281}" type="presParOf" srcId="{CC7BAFBA-08F2-4774-A682-22D155D1FB9D}" destId="{5383A2A0-DEEE-4013-A5E5-B8CF67BA5157}" srcOrd="0" destOrd="0" presId="urn:microsoft.com/office/officeart/2005/8/layout/hierarchy4"/>
    <dgm:cxn modelId="{2181BE3A-B44E-4FC6-A0BA-E711F1CD57B2}" type="presParOf" srcId="{5383A2A0-DEEE-4013-A5E5-B8CF67BA5157}" destId="{D7BFB2A1-955D-4EFB-A6D9-B3D4E4CF4FB4}" srcOrd="0" destOrd="0" presId="urn:microsoft.com/office/officeart/2005/8/layout/hierarchy4"/>
    <dgm:cxn modelId="{1C97EE78-689C-4A47-A744-18084284FCB8}" type="presParOf" srcId="{5383A2A0-DEEE-4013-A5E5-B8CF67BA5157}" destId="{756327CB-92AA-4B52-ABAC-6EB0E4B82DD9}" srcOrd="1" destOrd="0" presId="urn:microsoft.com/office/officeart/2005/8/layout/hierarchy4"/>
    <dgm:cxn modelId="{DF8B1DBC-501B-482E-8D8E-94A9894EE4DC}" type="presParOf" srcId="{5383A2A0-DEEE-4013-A5E5-B8CF67BA5157}" destId="{66FC0C9B-E73F-45E2-BBEA-2FD5E5FDC992}" srcOrd="2" destOrd="0" presId="urn:microsoft.com/office/officeart/2005/8/layout/hierarchy4"/>
    <dgm:cxn modelId="{07ADB435-E80F-4A31-BA35-B0FC57FD3427}" type="presParOf" srcId="{66FC0C9B-E73F-45E2-BBEA-2FD5E5FDC992}" destId="{D6DB43B1-8367-4270-B089-8D9213942539}" srcOrd="0" destOrd="0" presId="urn:microsoft.com/office/officeart/2005/8/layout/hierarchy4"/>
    <dgm:cxn modelId="{5B7318CB-B1FC-4781-9F32-262ECEE8FF6A}" type="presParOf" srcId="{D6DB43B1-8367-4270-B089-8D9213942539}" destId="{6F06082F-D823-4837-B6DE-A7535702D30B}" srcOrd="0" destOrd="0" presId="urn:microsoft.com/office/officeart/2005/8/layout/hierarchy4"/>
    <dgm:cxn modelId="{C194CFAA-187C-4F23-8C6B-441F9136030D}" type="presParOf" srcId="{D6DB43B1-8367-4270-B089-8D9213942539}" destId="{F43BBED4-1D53-4E9B-BCDB-2BAFFFCA512A}" srcOrd="1" destOrd="0" presId="urn:microsoft.com/office/officeart/2005/8/layout/hierarchy4"/>
    <dgm:cxn modelId="{C7A4B612-3E38-4656-8461-7FAF0C01D88A}" type="presParOf" srcId="{D6DB43B1-8367-4270-B089-8D9213942539}" destId="{97302874-E304-4410-ADFA-A60EA0F13DC3}" srcOrd="2" destOrd="0" presId="urn:microsoft.com/office/officeart/2005/8/layout/hierarchy4"/>
    <dgm:cxn modelId="{41A280E4-DF7E-49A1-A2FF-7507FDABD9FE}" type="presParOf" srcId="{97302874-E304-4410-ADFA-A60EA0F13DC3}" destId="{E2672BA2-F17F-42F6-8153-145BBE20B3DE}" srcOrd="0" destOrd="0" presId="urn:microsoft.com/office/officeart/2005/8/layout/hierarchy4"/>
    <dgm:cxn modelId="{76B76A40-24FE-4B72-8030-D8FBCE6502EB}" type="presParOf" srcId="{E2672BA2-F17F-42F6-8153-145BBE20B3DE}" destId="{184F94B8-01E0-478F-8D5C-5E9B4AAACC3C}" srcOrd="0" destOrd="0" presId="urn:microsoft.com/office/officeart/2005/8/layout/hierarchy4"/>
    <dgm:cxn modelId="{2DAAE463-84B0-4890-812D-2021A5CE1DB6}" type="presParOf" srcId="{E2672BA2-F17F-42F6-8153-145BBE20B3DE}" destId="{8A52424E-C010-4BC8-B0D3-2E5F1F717562}" srcOrd="1" destOrd="0" presId="urn:microsoft.com/office/officeart/2005/8/layout/hierarchy4"/>
    <dgm:cxn modelId="{6B9A4C48-3EBE-4519-B735-144C6531AF5C}" type="presParOf" srcId="{E2672BA2-F17F-42F6-8153-145BBE20B3DE}" destId="{D28ED55E-0A14-48A3-AF1B-3BCE17E4F28C}" srcOrd="2" destOrd="0" presId="urn:microsoft.com/office/officeart/2005/8/layout/hierarchy4"/>
    <dgm:cxn modelId="{88B61134-3185-4F7D-951A-F7C2B6EF485F}" type="presParOf" srcId="{D28ED55E-0A14-48A3-AF1B-3BCE17E4F28C}" destId="{5097420A-72D8-498A-8BC0-62119B072480}" srcOrd="0" destOrd="0" presId="urn:microsoft.com/office/officeart/2005/8/layout/hierarchy4"/>
    <dgm:cxn modelId="{44F25794-074B-431C-8504-A6F8C867974E}" type="presParOf" srcId="{5097420A-72D8-498A-8BC0-62119B072480}" destId="{D4C6A7F2-6013-4A61-B88A-45F3BF4BEF47}" srcOrd="0" destOrd="0" presId="urn:microsoft.com/office/officeart/2005/8/layout/hierarchy4"/>
    <dgm:cxn modelId="{99D87E65-7251-4F79-A5E4-C81C6CE697DA}" type="presParOf" srcId="{5097420A-72D8-498A-8BC0-62119B072480}" destId="{3465D108-D4B5-46F6-A9FB-3F7BAACB0040}" srcOrd="1" destOrd="0" presId="urn:microsoft.com/office/officeart/2005/8/layout/hierarchy4"/>
    <dgm:cxn modelId="{03203B1D-FFB6-43FF-9AA7-CC943427D40B}" type="presParOf" srcId="{5097420A-72D8-498A-8BC0-62119B072480}" destId="{CA71C0AF-EA1A-456E-A969-C5C5548AA713}" srcOrd="2" destOrd="0" presId="urn:microsoft.com/office/officeart/2005/8/layout/hierarchy4"/>
    <dgm:cxn modelId="{63B9BA4A-17AB-40A0-9850-C560954E5C7B}" type="presParOf" srcId="{CA71C0AF-EA1A-456E-A969-C5C5548AA713}" destId="{85C37D2E-8258-4E08-979F-CACCECE4D4AF}" srcOrd="0" destOrd="0" presId="urn:microsoft.com/office/officeart/2005/8/layout/hierarchy4"/>
    <dgm:cxn modelId="{6488433F-4AFD-40D1-9AE6-032C00D3F3E1}" type="presParOf" srcId="{85C37D2E-8258-4E08-979F-CACCECE4D4AF}" destId="{308D2534-0E34-49C0-890A-DC14FC887B8A}" srcOrd="0" destOrd="0" presId="urn:microsoft.com/office/officeart/2005/8/layout/hierarchy4"/>
    <dgm:cxn modelId="{4656DCF1-8863-4536-B9DA-DF3198D9CC56}" type="presParOf" srcId="{85C37D2E-8258-4E08-979F-CACCECE4D4AF}" destId="{ABCFE8C1-0283-4467-9CBA-2D8AD718007C}" srcOrd="1" destOrd="0" presId="urn:microsoft.com/office/officeart/2005/8/layout/hierarchy4"/>
    <dgm:cxn modelId="{9833F4D0-4541-4D0F-8885-F2C3B552ECA6}" type="presParOf" srcId="{97302874-E304-4410-ADFA-A60EA0F13DC3}" destId="{431C7E33-E8B6-4228-8CFE-14EB1AD505B6}" srcOrd="1" destOrd="0" presId="urn:microsoft.com/office/officeart/2005/8/layout/hierarchy4"/>
    <dgm:cxn modelId="{5F04D3CB-A90C-4995-B62D-EC93D2885C66}" type="presParOf" srcId="{97302874-E304-4410-ADFA-A60EA0F13DC3}" destId="{3AEDADCE-2E83-49C4-BE4F-A65BF0AD726C}" srcOrd="2" destOrd="0" presId="urn:microsoft.com/office/officeart/2005/8/layout/hierarchy4"/>
    <dgm:cxn modelId="{1D01A777-EF49-4665-A391-B82E25FBC246}" type="presParOf" srcId="{3AEDADCE-2E83-49C4-BE4F-A65BF0AD726C}" destId="{E2B5C4C1-C5C1-4D71-A776-AA7EA83AA597}" srcOrd="0" destOrd="0" presId="urn:microsoft.com/office/officeart/2005/8/layout/hierarchy4"/>
    <dgm:cxn modelId="{68E24C72-C69D-47B2-BF7A-4509291F9119}" type="presParOf" srcId="{3AEDADCE-2E83-49C4-BE4F-A65BF0AD726C}" destId="{9FA71209-EE16-42F5-8CAE-BAF9D8022D83}" srcOrd="1" destOrd="0" presId="urn:microsoft.com/office/officeart/2005/8/layout/hierarchy4"/>
    <dgm:cxn modelId="{3B0CA475-B506-4344-9EB4-5E642CA5D46D}" type="presParOf" srcId="{97302874-E304-4410-ADFA-A60EA0F13DC3}" destId="{A5998ABA-621B-4001-976B-6135A31B3010}" srcOrd="3" destOrd="0" presId="urn:microsoft.com/office/officeart/2005/8/layout/hierarchy4"/>
    <dgm:cxn modelId="{14BB9F95-DA83-4FE8-A20F-1B5BC7A0E48C}" type="presParOf" srcId="{97302874-E304-4410-ADFA-A60EA0F13DC3}" destId="{67EE154F-356F-41A6-8F4B-01CC1007E07E}" srcOrd="4" destOrd="0" presId="urn:microsoft.com/office/officeart/2005/8/layout/hierarchy4"/>
    <dgm:cxn modelId="{68E1568E-30AD-4243-B993-9D06E8A6C723}" type="presParOf" srcId="{67EE154F-356F-41A6-8F4B-01CC1007E07E}" destId="{AD3FEA00-7510-4D4E-A045-C79048387B36}" srcOrd="0" destOrd="0" presId="urn:microsoft.com/office/officeart/2005/8/layout/hierarchy4"/>
    <dgm:cxn modelId="{7DD0602B-4504-4248-9862-FA9723CE7065}" type="presParOf" srcId="{67EE154F-356F-41A6-8F4B-01CC1007E07E}" destId="{F0A10195-C97D-4CF2-9807-DB98ABFBBA9D}" srcOrd="1" destOrd="0" presId="urn:microsoft.com/office/officeart/2005/8/layout/hierarchy4"/>
    <dgm:cxn modelId="{06A5D0F2-1C6F-4019-8945-44EF8700DBBB}" type="presParOf" srcId="{97302874-E304-4410-ADFA-A60EA0F13DC3}" destId="{F5455CC1-A1D2-4166-B8BB-B1CF1E6863AE}" srcOrd="5" destOrd="0" presId="urn:microsoft.com/office/officeart/2005/8/layout/hierarchy4"/>
    <dgm:cxn modelId="{443DC65A-BC46-423C-8107-BE8E2ED690BC}" type="presParOf" srcId="{97302874-E304-4410-ADFA-A60EA0F13DC3}" destId="{4E777486-C74C-4281-A472-2910E2B25B4A}" srcOrd="6" destOrd="0" presId="urn:microsoft.com/office/officeart/2005/8/layout/hierarchy4"/>
    <dgm:cxn modelId="{E8681D6B-2786-4BB4-B926-F2FB5BB71988}" type="presParOf" srcId="{4E777486-C74C-4281-A472-2910E2B25B4A}" destId="{EEC79A7F-AB37-4592-897E-52338C56C270}" srcOrd="0" destOrd="0" presId="urn:microsoft.com/office/officeart/2005/8/layout/hierarchy4"/>
    <dgm:cxn modelId="{6A9CCBAF-22E5-4F85-B6B0-09AE5FD4F9AE}" type="presParOf" srcId="{4E777486-C74C-4281-A472-2910E2B25B4A}" destId="{44430F5C-0DB7-4F54-8720-0B59FA1AE32B}" srcOrd="1" destOrd="0" presId="urn:microsoft.com/office/officeart/2005/8/layout/hierarchy4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8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592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0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8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592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708-4810-4F98-82D5-95913E55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3A1-954B-456A-8981-89884B26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5E3-66B5-4657-9DC9-DA5F2C3F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6B4-00BC-4251-91C8-EABC387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684-9402-4D0B-BF3D-B1DE2648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0280" y="1316880"/>
            <a:ext cx="777204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BEE-C56E-446A-A3F5-AEF90CF3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493-7DEA-4B57-A84E-74D9C7C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D40-519B-4193-9872-E3913C7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6BA-AB7F-4DC4-91CF-40B3F98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43B-6923-4519-9C0D-44D4F014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A68-AF34-4750-A27A-299B2166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58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8592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0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58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8592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0BA-17BC-493C-B059-5F756108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CF94-1F9D-4401-A604-4D08148B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8D4A-645C-49D8-B241-4E3B2BB1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679-6834-4C25-83C1-111FFF4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0CDC-C1CF-4AD6-B4CB-D94F9209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F87E-26D9-4FA1-A575-09366AF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0280" y="1316880"/>
            <a:ext cx="777204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8E76-78D8-4AA3-A9FE-05657A8D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6F51-B20F-4238-8D7E-CD5FDFA2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5F8C-D1C0-48C7-8159-3DC98E3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CB4-EF2E-44EF-AB5A-E7A81F8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993B-FB6B-4A9B-B4D9-2FFDE63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EADC-0022-4D60-B3A5-4C2C2F82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58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78592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0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58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78592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05C-ED44-4A78-8BC2-857DF89C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0280" y="1316880"/>
            <a:ext cx="777204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3286080" y="5286240"/>
            <a:ext cx="2363400" cy="1125000"/>
          </a:xfrm>
          <a:prstGeom prst="rect">
            <a:avLst/>
          </a:prstGeom>
          <a:ln w="9525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de-DE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6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7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Titelmasterformat durch Klicken bearbei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Textmasterformate durch Klicken bearbei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weite Eben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Dritte Eben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035c75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8183A2-4656-4D89-99C4-B939EB50FB36}" type="slidenum">
              <a:rPr b="0" lang="de-AT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Constantia"/>
              </a:rPr>
              <a:t>Textmasterformate durch Klicken bearbeiten</a:t>
            </a:r>
            <a:endParaRPr b="0" lang="de-DE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d1eaed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2C0D56-F2DA-46DF-A273-5A1775570121}" type="slidenum">
              <a:rPr b="0" lang="de-AT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4" descr="logo-trans.png"/>
          <p:cNvPicPr/>
          <p:nvPr/>
        </p:nvPicPr>
        <p:blipFill>
          <a:blip r:embed="rId1"/>
          <a:stretch/>
        </p:blipFill>
        <p:spPr>
          <a:xfrm>
            <a:off x="142920" y="1745280"/>
            <a:ext cx="8643600" cy="2469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00840" y="3357720"/>
            <a:ext cx="2853720" cy="57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Game De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43160" y="3214800"/>
            <a:ext cx="2714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Features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E65-0BAE-421D-8FB0-82FC1C5434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igenschaften von Objek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as sind Objekte?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Or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als Punkte auf der Karte dargestell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sitzt einen Wirkungsbereich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2m)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5m)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B0D-D51F-43EE-9D1C-0C72F070D9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karte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röß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estimmt der eingestellte Radiu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ig  Bos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ufträge (A – B)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gent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EF7-AE78-4E85-B2F4-861EE9AF1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86040" y="2571840"/>
            <a:ext cx="3857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Spielaufbau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60F3-A5CE-4602-AB70-C8E9DF04C4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truktur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53920738"/>
              </p:ext>
            </p:extLst>
          </p:nvPr>
        </p:nvGraphicFramePr>
        <p:xfrm>
          <a:off x="857160" y="1571760"/>
          <a:ext cx="750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4DC-8B65-44A6-B586-CF9DEF92CB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00240" y="785880"/>
            <a:ext cx="335736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Hauptmenü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nhaltsplatzhalter 9" descr="CMIYC_MainMenue.jpg"/>
          <p:cNvPicPr/>
          <p:nvPr/>
        </p:nvPicPr>
        <p:blipFill>
          <a:blip r:embed="rId1"/>
          <a:stretch/>
        </p:blipFill>
        <p:spPr>
          <a:xfrm>
            <a:off x="1785960" y="171432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DF9-1F6D-4452-8E23-9536B2F0DC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 erstell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" name="Inhaltsplatzhalter 7" descr="CMIYC_SpielErstellen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061-7B3A-46BD-A74B-455F588357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24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 beitreten</a:t>
            </a:r>
            <a:endParaRPr b="0" lang="de-DE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Inhaltsplatzhalter 8" descr="CMIYC_SpielBeitreten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677-6C66-4C0D-A051-CC1E94249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24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 Channel</a:t>
            </a:r>
            <a:endParaRPr b="0" lang="de-DE" sz="4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Inhaltsplatzhalter 10" descr="CMIYC_WarteRaum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3C7-E102-4AF3-AE75-46F5366AEE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86040" y="3000240"/>
            <a:ext cx="35002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Spielablauf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04A8-C933-432E-9CB9-376E5BFD59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llgemeines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nline Spiel für mobile Endgerät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Nutzt GP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ines Multiplayer Spie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bination aus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chnitzeljagd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Räuber und Gendarm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1E8-EBB6-424E-8D9E-BF92F553F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24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start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neriert die Position der Hauptquartiere der Team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eichnet diese auf der Karte ei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hen zu ihren Hauptquartier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chef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etzt eine bestimmte Anzahl von Agents auf der Kar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 beginn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472-8B44-4454-9D61-0009DAE95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240" cy="846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ufgaben der Teams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i aufspüren und verhaft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ufspüren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ichtkontank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eldung von Agents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haften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Indem sich ein Polizist eine bestimmte Zeit im Bereich eines Mafioso aufhäl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ufträge ausführen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Mafiosi müssen ein Objekt von A nach B transportieren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867-C7B4-4E26-8AB0-2CFDBDF5D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reignisse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wird gefass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 erhält Punk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o kann eine bestimmte Zeit lang keine Aufträge annehm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 muss zurück zum Hauptquarti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erfüllt einen Auftra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 erhält Punk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8AA-4B59-4B2A-A0C9-B56A01521D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857320"/>
            <a:ext cx="50716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Beispielrunde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2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2D5-02FF-47E0-BA4D-B7126A6E33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einstellung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nam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Test FH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uer um einen Mafioso zu fassen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1 mi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Freeztime eines Mafioso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2 mi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unkteanzah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300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ximal Spieleranzah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6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nzahl der Agent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adius des Spielfelde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200m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2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13B-9348-4C91-B2AC-58820133AE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erhält Auftra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ftra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nhalt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Stehlen sie 10 Gewehre von Luigi und liefern sie die Ware bei Don Charly ab.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Wert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10 Punkt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FEC-230B-499A-8911-201D1762FA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verteilt die Aufträge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Auftra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an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nd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3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16A-7A18-4F81-A082-327F425440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zenario 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und Andi holen die Ware ab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finden sich auf dem Weg zum Übergabeor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jedoch von einem Agent gesichte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fficer verfolgt si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kann nicht entkommen und wird gefass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ndi entkomm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sultat: Mission Fehlgeschla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3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C51-03B8-47DD-B0FE-843E2AF642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Mafiosi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Inhaltsplatzhalter 6" descr="CMIYC_MAP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feld 7"/>
          <p:cNvSpPr/>
          <p:nvPr/>
        </p:nvSpPr>
        <p:spPr>
          <a:xfrm>
            <a:off x="5286240" y="271476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Lu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8"/>
          <p:cNvSpPr/>
          <p:nvPr/>
        </p:nvSpPr>
        <p:spPr>
          <a:xfrm>
            <a:off x="4214880" y="5500800"/>
            <a:ext cx="128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on 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9"/>
          <p:cNvSpPr/>
          <p:nvPr/>
        </p:nvSpPr>
        <p:spPr>
          <a:xfrm>
            <a:off x="4500720" y="464328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ig 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feld 10"/>
          <p:cNvSpPr/>
          <p:nvPr/>
        </p:nvSpPr>
        <p:spPr>
          <a:xfrm>
            <a:off x="3071880" y="28573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feld 11"/>
          <p:cNvSpPr/>
          <p:nvPr/>
        </p:nvSpPr>
        <p:spPr>
          <a:xfrm>
            <a:off x="4071960" y="33577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feld 12"/>
          <p:cNvSpPr/>
          <p:nvPr/>
        </p:nvSpPr>
        <p:spPr>
          <a:xfrm>
            <a:off x="5429160" y="33577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A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Gerade Verbindung mit Pfeil 14"/>
          <p:cNvCxnSpPr/>
          <p:nvPr/>
        </p:nvCxnSpPr>
        <p:spPr>
          <a:xfrm flipV="1">
            <a:off x="3571560" y="3000240"/>
            <a:ext cx="1429200" cy="28620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219" name="Gerade Verbindung mit Pfeil 15"/>
          <p:cNvCxnSpPr/>
          <p:nvPr/>
        </p:nvCxnSpPr>
        <p:spPr>
          <a:xfrm flipH="1">
            <a:off x="4143240" y="3071520"/>
            <a:ext cx="1286280" cy="242928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820-6133-4576-9D4F-87681FFB51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nhaltsplatzhalter 7" descr="CMIYC_MAP_v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Polizei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3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feld 8"/>
          <p:cNvSpPr/>
          <p:nvPr/>
        </p:nvSpPr>
        <p:spPr>
          <a:xfrm>
            <a:off x="5286240" y="271476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9"/>
          <p:cNvSpPr/>
          <p:nvPr/>
        </p:nvSpPr>
        <p:spPr>
          <a:xfrm>
            <a:off x="7215120" y="3500280"/>
            <a:ext cx="99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feld 11"/>
          <p:cNvSpPr/>
          <p:nvPr/>
        </p:nvSpPr>
        <p:spPr>
          <a:xfrm>
            <a:off x="5857920" y="457200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feld 12"/>
          <p:cNvSpPr/>
          <p:nvPr/>
        </p:nvSpPr>
        <p:spPr>
          <a:xfrm>
            <a:off x="4000320" y="500076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lussdiagramm: Verbindungsstelle 14"/>
          <p:cNvSpPr/>
          <p:nvPr/>
        </p:nvSpPr>
        <p:spPr>
          <a:xfrm>
            <a:off x="4786200" y="3429000"/>
            <a:ext cx="928440" cy="785520"/>
          </a:xfrm>
          <a:prstGeom prst="flowChartConnector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AT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28" name="Textfeld 10"/>
          <p:cNvSpPr/>
          <p:nvPr/>
        </p:nvSpPr>
        <p:spPr>
          <a:xfrm>
            <a:off x="7215120" y="385776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Gerade Verbindung mit Pfeil 16"/>
          <p:cNvCxnSpPr/>
          <p:nvPr/>
        </p:nvCxnSpPr>
        <p:spPr>
          <a:xfrm flipH="1" flipV="1">
            <a:off x="5429160" y="3571560"/>
            <a:ext cx="1571760" cy="1432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0" name="Gerade Verbindung mit Pfeil 17"/>
          <p:cNvCxnSpPr/>
          <p:nvPr/>
        </p:nvCxnSpPr>
        <p:spPr>
          <a:xfrm flipH="1" flipV="1">
            <a:off x="5500440" y="3857400"/>
            <a:ext cx="1572120" cy="1432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1" name="Gerade Verbindung mit Pfeil 19"/>
          <p:cNvCxnSpPr/>
          <p:nvPr/>
        </p:nvCxnSpPr>
        <p:spPr>
          <a:xfrm flipH="1" flipV="1">
            <a:off x="5357520" y="4000320"/>
            <a:ext cx="214920" cy="50040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82A-4F6E-4FCD-A760-0E22BEE997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Voraussetzung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PS fähiges Handy oder PDA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lattformen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AV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icrosoft .net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nternetverbindung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PR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UMT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DP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UP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0AB-1A04-49B9-B9B4-C37AA9F224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64312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Ende Spielbeschreibung</a:t>
            </a:r>
            <a:br>
              <a:rPr sz="5600"/>
            </a:b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Weiter mit Businesspla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3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12C-3D2A-4A17-8E55-50775A4ED1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Geplante Umsetzun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 – Client Prinzip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munikation im Spie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Nachrichten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einzelne Spieler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all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EE7-1154-4654-B3AD-F2225BE9D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57240" y="2571840"/>
            <a:ext cx="561276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Spielbeschreibung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A13-F231-4947-87E7-C241E65AE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Worum geht’s bei CMIYC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 Teams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Führt Aufträge aus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eitelt Aufträge der Mafia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Ziel des Spiels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reichung einer bestimmten Punkteanzahl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640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7D1-5BA4-419F-8904-634941D1F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9000" y="2643120"/>
            <a:ext cx="19998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Teams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230-79D6-4AA1-BC37-201EE2C727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Mafia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ig Bos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hält Aufträge vom Serv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Vergibt Aufträge an die Mafios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eaktiviert Agents 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füllt Missionen für den Big Bos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tartpunkt der Mafi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estandteil von Aufträg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52F-E444-49FB-83A6-FBB84A14C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Polizei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AT" sz="2400" spc="-1" strike="noStrike">
                <a:solidFill>
                  <a:srgbClr val="000000"/>
                </a:solidFill>
                <a:latin typeface="Constantia"/>
              </a:rPr>
              <a:t>Startpunkt der Polizist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NPC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äher mit bestimmtem Überwachungsbereich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eldet Aktivitäten an die gesamte Polize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nzahl sowie Überwachungsbereich hängen von der Größe des Spielfeldes ab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Verhaftet Mafios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etzt Agent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ann Agents reaktivier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C73-4A3C-43A6-8B9F-E7CD9286ED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0</TotalTime>
  <Application>LibreOffice/7.4.7.2$Linux_X86_64 LibreOffice_project/40$Build-2</Application>
  <AppVersion>15.0000</AppVersion>
  <Words>792</Words>
  <Paragraphs>2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39:19Z</dcterms:created>
  <dc:creator>Daniel Marschnig</dc:creator>
  <dc:description/>
  <dc:language>en-US</dc:language>
  <cp:lastModifiedBy>Daniel Marschnig</cp:lastModifiedBy>
  <dcterms:modified xsi:type="dcterms:W3CDTF">2008-12-19T07:34:52Z</dcterms:modified>
  <cp:revision>9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30</vt:r8>
  </property>
</Properties>
</file>